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DC00-5D5A-4716-B6BE-2BC7A57A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C7B0-43AC-449A-ADC0-8DC4D6FD7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9BF2-EA84-4CC8-ACE9-00565D86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CBB-457A-49CD-A7E8-2C8E045E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30E0-0A6E-42BF-B4DC-B604BE1B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C884-1645-4EE8-855D-98DC67C4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AC39-6934-4D8D-B7F4-DF2DCD7E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CE53-1944-4B45-A472-98D66509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00C-5C10-45AD-9AF3-92250A99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AC0-0FA6-4FB2-B9ED-B46E6C78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5AE9-B0CD-4988-9715-54A2BB08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C5D-06F7-4AF5-BC69-6E52C1E1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40CF-3393-46DD-8558-1AB5FE46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0E6-37C1-427E-8400-7670C372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AF8-65FC-438E-AD7B-887D1A85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734-6473-4129-9410-B018EF74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D20-38D6-447B-8067-B234E9F0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A1B-1A40-49A3-8E3C-E2E4E7D0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757-E29A-4719-9C03-264334EE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8F2-E816-4155-863C-6F5C2D2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4A8-8A18-40C4-A9F0-21AE5194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436-DF10-4767-BA97-D082C900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988-23E3-4A24-832F-771D82FA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6A2-69E9-4124-A373-09D9D8C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587-EA87-481E-9769-67ED62F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42D0-37F4-4C52-B60E-3D11BA52C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portfol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have been your experiences with portfolios in K-12 educatio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fore,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1480" y="1295280"/>
            <a:ext cx="63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udent portfolio has three major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772400" cy="4481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m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Documentation of the development of major 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es, diagrams, drafts, and final versions of an ess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Evidence of the range or variety of student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journal providing evidence of the depth and breadth of student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 reading interests, personal responses to literature,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and analysis of lit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Student refl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 description of the basic features of his/her work, the changes over time, and the work yet to be achieved.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Benefits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tfolio Assess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velopment of student responsibility for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newed emphasis on process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on a developmental view of lear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Stiggins says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GS127@seattleu.edu_20151123_120147.pdf"/>
          <p:cNvPicPr/>
          <p:nvPr/>
        </p:nvPicPr>
        <p:blipFill>
          <a:blip r:embed="rId1"/>
          <a:srcRect l="21082" t="10242" r="6847" b="20141"/>
          <a:stretch/>
        </p:blipFill>
        <p:spPr>
          <a:xfrm rot="10800000">
            <a:off x="3733920" y="457200"/>
            <a:ext cx="4952880" cy="6191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104760" y="3124080"/>
            <a:ext cx="3716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This is an example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stimulus tool used to e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student reflection rega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the work samples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included in a portfoli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bfbfbf"/>
                </a:solidFill>
                <a:latin typeface="Times New Roman"/>
                <a:ea typeface="ＭＳ Ｐゴシック"/>
              </a:rPr>
              <a:t>(Stiggins, 2012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7004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382896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Oval Callout 1"/>
          <p:cNvSpPr/>
          <p:nvPr/>
        </p:nvSpPr>
        <p:spPr>
          <a:xfrm>
            <a:off x="1752480" y="457200"/>
            <a:ext cx="2133720" cy="1295280"/>
          </a:xfrm>
          <a:prstGeom prst="wedgeEllipseCallout">
            <a:avLst>
              <a:gd name="adj1" fmla="val 62296"/>
              <a:gd name="adj2" fmla="val 9968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love portfoli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00640" y="3581280"/>
            <a:ext cx="38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es Ms. Frizzle      love portfol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purposeful collection of student work that tells a story about the student’s efforts, progress, or achievement in one or more academic disciplines.  This collection must include student participation in the selection of portfolio content; guidelines for the selection of that material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guidelines for the selection of that material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student participation in the selection of portfolio cont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guidelines for the selection of that material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guidelines for the selection of that mater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criteria for judging the merit of the work collected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guidelines for the selection of that material;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criteria for judging the merit of the work coll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evidence of student self-refl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portfolio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rposeful collection of student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tells a story about the student’s efforts, progress, or achievement in one or more academic disciplines.  This collection must include student participation in the selection of portfolio content; guidelines for the selection of that material; criteria for judging the merit of the work collected, and </a:t>
            </a:r>
            <a:r>
              <a:rPr b="0" lang="en-US" sz="2800" spc="-1" strike="noStrike">
                <a:solidFill>
                  <a:srgbClr val="ed181e"/>
                </a:solidFill>
                <a:latin typeface="Times New Roman"/>
              </a:rPr>
              <a:t>evidence of student self-refle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760" y="6194520"/>
            <a:ext cx="714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79240" y="6087960"/>
            <a:ext cx="8018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rter &amp; Spandler (1992).  Using portfolios of student work in instruction and assessmen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al Measurement: Issues and Practices, 11 (1) 36-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 longitudinal 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 stages of development in the completion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a variety of tasks and so can illustrate brea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.g., in language a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ournal entrie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rmal essay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em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arrative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pe recordings of classroom presentations, etc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 longitudinal 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 stages of development in the completion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a variety of tasks and so can illustrate brea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 Portfol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04920" y="33526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multiple opportunities to demonstrate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the student in the selection proces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 student reflections on their wor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62160" y="5241960"/>
            <a:ext cx="68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rtfolios are samples of student work rath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ponses to standardized stimu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4:10:13Z</dcterms:created>
  <dc:creator>Mark Roddy</dc:creator>
  <dc:description/>
  <dc:language>en-US</dc:language>
  <cp:lastModifiedBy>Roddy, Mark</cp:lastModifiedBy>
  <cp:lastPrinted>2015-11-23T20:27:37Z</cp:lastPrinted>
  <dcterms:modified xsi:type="dcterms:W3CDTF">2017-11-28T15:41:40Z</dcterms:modified>
  <cp:revision>25</cp:revision>
  <dc:subject/>
  <dc:title>Student Portfolios</dc:title>
</cp:coreProperties>
</file>